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329A-6C8A-4A6E-8BA5-F384B9EE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9BB-558F-4D78-A8D0-0F0C28DF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BFD-2A3C-4072-AA55-C3C121E6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A2D-6CE0-4BB7-A7B0-BF92DB42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ECB-476F-414A-BF2C-3716277F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9C1-148E-4A32-9620-6CABC0E9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0EF-ED1E-45C7-942A-D0E33544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8BE-31C9-4E64-A57C-28E4F5A0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028-0F54-48A7-A262-D3CBFC89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B9A-E762-4820-840E-DFE205FA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D264-8166-4397-B7FD-7841883A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5A0-79A6-4E3A-8122-761F537E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0137-80D1-4D27-BD2D-6126CF8AE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uman Impact 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Enviro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biosphere"/>
          <p:cNvPicPr/>
          <p:nvPr/>
        </p:nvPicPr>
        <p:blipFill>
          <a:blip r:embed="rId1"/>
          <a:stretch/>
        </p:blipFill>
        <p:spPr>
          <a:xfrm>
            <a:off x="3124080" y="236232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mful material that can enter the biosphere through land, water, or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35880" y="1981080"/>
            <a:ext cx="215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ollu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3920" y="3697200"/>
            <a:ext cx="860076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um total of the variety of organism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iosphere; It is a measure of the heal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an eco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438280" y="54100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biod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rm used to refer to a species that is at risk of becoming endang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8880" y="2209680"/>
            <a:ext cx="25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reate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37160" y="3809880"/>
            <a:ext cx="9004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litting of ecosystems into small area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447920" y="48769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Habitat frag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pecies whose population size is rapidly declining and will become extinct if the trend continues without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983240" y="2133720"/>
            <a:ext cx="271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ndang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00600" y="3581280"/>
            <a:ext cx="720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concentration a harmf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tance in organisms at hig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ophic levels in a food chain or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85800" y="54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Biological magn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ts or animals that have migrated or been introduced into places where they are not native and for which there are no natural predators or parasites to control their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278520" y="2514600"/>
            <a:ext cx="36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vasive spe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35800" y="3733920"/>
            <a:ext cx="855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ise management of natural resour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ing the preservation of habitats and wild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743200" y="5029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n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eas containing endangered ecosystems that could benefit most from efforts and $ to preserve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822400" y="2209680"/>
            <a:ext cx="222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t sp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06640" y="3733920"/>
            <a:ext cx="84178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mospheric layer in which ozone (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g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relatively concentrated which prot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 from the su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ultra-violet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85800" y="54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zone 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n containing nitric and sulfuric acids caused by burning fossil 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745360" y="1981080"/>
            <a:ext cx="22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cid r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02400" y="3618000"/>
            <a:ext cx="79682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 in the average temperature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438280" y="46483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lobal war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153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els such as oil, coal, or natural gas produced by the decay of dead organic matter that cause many environmental problems such as global warming and acid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745360" y="3124080"/>
            <a:ext cx="256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ssil fu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7800" y="4343400"/>
            <a:ext cx="57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llegal hunting of 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85800" y="54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po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bra mussels and leafy spurge in South Dakota and rabbits in Australia are examples of what environmental prob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525680" y="1905120"/>
            <a:ext cx="36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vasive spe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33280" y="2819520"/>
            <a:ext cx="8447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two modern agricultural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are helping to preserve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4920" y="47242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atellite/GPS imaging, no-till, crop rotation, contour plowing, controlled grazing, cover crops, biological pes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al body whose job it is to monitor and enforce environmental regulations, provide education on environmental issues, conduct environmental research, and provide funding for environment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89040" y="2590920"/>
            <a:ext cx="757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nvironmental Protection Agenc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(EP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36880" y="4114800"/>
            <a:ext cx="9029160" cy="17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eement signed by almost 200 countri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ing the United States, which agreed to redu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nd eventually stop) the use of ozone deple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066680" y="57913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ontreal Protoc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iant aquifer that supplies water for drinking and agricultural irrigation to much of the farming midw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981440" y="2209680"/>
            <a:ext cx="201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gall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37240" y="3505320"/>
            <a:ext cx="844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 passed to protect endangered species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s importation into the United State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thing that comes from an endangered ani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85800" y="5029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nvention on International Trade in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ndangered Species (CITES)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rm used to refer to a species that has died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964320" y="990720"/>
            <a:ext cx="164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xtin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52280" y="2438280"/>
            <a:ext cx="5486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pesticide was pa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ough this food ch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organism would have the greatest concentration of pestic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4920" y="51055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Bird at the top troph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food-pyramid"/>
          <p:cNvPicPr/>
          <p:nvPr/>
        </p:nvPicPr>
        <p:blipFill>
          <a:blip r:embed="rId1"/>
          <a:stretch/>
        </p:blipFill>
        <p:spPr>
          <a:xfrm>
            <a:off x="5562720" y="2133720"/>
            <a:ext cx="33512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eement, aimed at reducing global warming, which has been ratified by 104 nations that asks participants to reduce by 2012 their greenhouse gas emissions to a percentage of their 1990 emission levels. (The President Bush has questioned some of the details of the treaty and the US has not ratified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516760" y="3276720"/>
            <a:ext cx="32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yoto Acc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26680" y="4518000"/>
            <a:ext cx="757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micals containing chlorofluorocarb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in aerosol cans and refrigerant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use a depletion of the ozone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743200" y="6019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FC</a:t>
            </a:r>
            <a:r>
              <a:rPr b="1" lang="ja-JP" sz="36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ea in which the addition of an abundance of limiting nutrients like nitrogen and phosphorus cause an algal bloom, blocking sunlight, and causing the death of organisms be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821680" y="3429000"/>
            <a:ext cx="242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d z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88680" y="4343400"/>
            <a:ext cx="748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l where we could see this problem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the United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762120" y="55627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ulf of Mexico where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      Mississippi River emp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tural process in which atmospheric gases trap energy from sunlight as 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13280" y="1905120"/>
            <a:ext cx="40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eenhouse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04080" y="3705120"/>
            <a:ext cx="832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ientific study of interactions amo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sms and between organis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thei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514600" y="5486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c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the organisms that live in a place together with their nonliving or physical environment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593440" y="1600200"/>
            <a:ext cx="235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co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7760" y="3581280"/>
            <a:ext cx="875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mmediate increase in the amount of alga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other producers that results from the add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a large amount of limiting nutr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514600" y="5486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lgal bl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 an environmental problem caused by burning fossil fu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44800" y="1600200"/>
            <a:ext cx="400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cid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lobal war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ir pollution/smog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Habitat de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90120" y="4038480"/>
            <a:ext cx="70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ll the cause of dead z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762120" y="51055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gricultural run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an invasive species that is causing problems in South Dak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603440" y="1676520"/>
            <a:ext cx="329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Zebra muss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afy spu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11040" y="3276720"/>
            <a:ext cx="8486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author whose boo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lent Spring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described the dan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DDT and started the environm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429000" y="53341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Rachel Ca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althy ecosystems hav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 level of biodivers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     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63920" y="1143000"/>
            <a:ext cx="11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52280" y="289548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something humans do that endangers species and reduces biodiver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28600" y="49528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ver hunting, poaching, habitat destruction, habitat fragmentation, industrial growth, ag runoff, burning fossil fuels (leads to global warming &amp; acid rain); CFC</a:t>
            </a:r>
            <a:r>
              <a:rPr b="1" lang="ja-JP" sz="28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, deforestation, air &amp; water pollution.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the late 1950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-early 1960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people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ar Minamata Bay, Japan became ill with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ppling neurological disease, later dis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 caused by mercury being dumped into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system there. The toxin passed along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chain and people became ill from eating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ght in the b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an example of which concept you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28600" y="487692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Biological magn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ollutants concentrate in the highest trophic levels (in this case… hum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one of the greenhous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143000" y="914400"/>
            <a:ext cx="358128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eth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FC</a:t>
            </a:r>
            <a:r>
              <a:rPr b="1" lang="ja-JP" sz="36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Water vap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560" y="3276720"/>
            <a:ext cx="80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an effect of too much UV 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762120" y="4019400"/>
            <a:ext cx="579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unburn/skin c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Premature 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ataracts/blind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Reduced crop y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Food chain disru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the environmental problem addressed by the Kyoto Acc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908000" y="1600200"/>
            <a:ext cx="451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lobal warming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(helps acid rain to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54800" y="2895480"/>
            <a:ext cx="855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3 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oods and services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eco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vide for hum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434340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olar energy, food production, oxygen production, nutrient storage &amp; recycling, climate regulation, habitats for wildlife, waste detoxification, natural pest/disease control, air/water purification, source of new medicines, soil erosion/runoff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necessity of life (resource) which can NOT be replenished by natural mean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: fossil fu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908000" y="2209680"/>
            <a:ext cx="546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n-renewable resou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76920" y="3962520"/>
            <a:ext cx="83538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ring away of the surface soil by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505320" y="53341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ro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the environmental proble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ed by the Montreal Protoc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755000" y="1676520"/>
            <a:ext cx="36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zone deple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08160" y="2971800"/>
            <a:ext cx="662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one effect of acid rain 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04920" y="449568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Kills fish, reduces biodiversity, damages forests, human illness/death (asthma/bronchit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ll something we can do to help reduce global war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80880" y="1523880"/>
            <a:ext cx="82296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educe use of fossil fuels </a:t>
            </a: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anything that uses less electricity or less water would he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rive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increase fuel efficiency on c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National energy policy that emphasizes  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and encourages use of alternative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e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educe defores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re are more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deforestation impact global warm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22920" y="1523880"/>
            <a:ext cx="847908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rees remove C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from atmospher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uring photosynthes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ewer trees means less C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is remov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… 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e global war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 3 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s and services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rovided to humans by the bi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145880" y="1371600"/>
            <a:ext cx="6482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olar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xygen production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utrient storage/cyc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mate regulation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ood production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uman/industrial waste detoxification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atural pest/diseas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ource of new medi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ource of raw materials for building stuff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ir/water purification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rosion/runoff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. . . . there are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es EPA stand f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536760" y="106668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nvironmental Protection Ag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61520" y="2209680"/>
            <a:ext cx="8193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of the following are caused b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rning fossil fu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id r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lobal warm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ozone deple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876920" y="342900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ll EXCE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zone depl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re caused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burning fossil fu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2 harmful effects of Ultra-violet l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04920" y="152388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unburn, skin cancer, cataracts/blindnes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Premature aging (wrinkles), decreased crop production, harm food chai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61160" y="3657600"/>
            <a:ext cx="59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atom makes oz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838080" y="464832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xygen; 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rming strategy in which large fields are planted with a single crop variety year aft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983960" y="1454040"/>
            <a:ext cx="294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no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00960" y="3429000"/>
            <a:ext cx="85093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ecessity of life (resource) which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enerate quickly and that is replaceabl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: trees, wa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905120" y="518148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Renewable resou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concentration a harmfu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tance in organisms at higher trophic levels in a food chain or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 the pesticide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ntrated in fish-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rds like eagle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d them to lay eg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ragile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80880" y="20574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Biological magn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food-pyramid"/>
          <p:cNvPicPr/>
          <p:nvPr/>
        </p:nvPicPr>
        <p:blipFill>
          <a:blip r:embed="rId1"/>
          <a:stretch/>
        </p:blipFill>
        <p:spPr>
          <a:xfrm>
            <a:off x="5715000" y="1828800"/>
            <a:ext cx="2903400" cy="38289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1600920" y="594360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gram in which endangered species are allowed to breed in zoos until numbers increase and then are returned to their natural habit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526400" y="2819520"/>
            <a:ext cx="39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ptive bree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11280" y="3809880"/>
            <a:ext cx="750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ests that have never been cut th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vide unique habitats for wild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Old growth forests  OR  </a:t>
            </a:r>
            <a:r>
              <a:rPr b="1" lang="ja-JP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virgin</a:t>
            </a:r>
            <a:r>
              <a:rPr b="1" lang="ja-JP" sz="32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fo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ppermost layer of soil that contains most of the nutrients and is susceptible to ero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439720" y="2362320"/>
            <a:ext cx="16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pso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09840" y="3581280"/>
            <a:ext cx="842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velength of sunlight that caus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nburn, skin cancer, and cataracts whic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zone layer protects us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514600" y="54864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Ultra violet (U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velopment of highly productive crop strains and the use of modern agriculture techniques to increase yields of food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602000" y="1981080"/>
            <a:ext cx="389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een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09480" y="4876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ustainabl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-1676520" y="3276720"/>
            <a:ext cx="17221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y of using natural resources without deple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m and of providing for human needs with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using long term harm to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rocess caused by a combination of poor farming practices, overgrazing, and drought that turns productive land in areas with dry climates into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440440" y="2590920"/>
            <a:ext cx="32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sert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18600" y="3962520"/>
            <a:ext cx="761940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ixture of chemicals (smoke + fog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occurs as a gray-brown haz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tm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85800" y="54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m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1:18:38Z</dcterms:created>
  <dc:creator>Becca Riedell</dc:creator>
  <dc:description/>
  <dc:language>en-US</dc:language>
  <cp:lastModifiedBy>Dustin Zahm</cp:lastModifiedBy>
  <dcterms:modified xsi:type="dcterms:W3CDTF">2014-02-23T21:15:30Z</dcterms:modified>
  <cp:revision>19</cp:revision>
  <dc:subject/>
  <dc:title>NAME OF GAME</dc:title>
</cp:coreProperties>
</file>